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FE0-F654-436E-971F-DA8C9111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58E-9DC2-4A9B-AF4D-61B097C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6BA-92DA-442D-BBD2-3610BAFE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3FB-9851-4CE2-BE00-2F47FF9F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C05D-A380-4916-999D-8E194F88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B32A-2EDF-409A-BAE6-4C8BC023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0CF2-79E0-4C9C-934D-C6B47DDC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D2F9-DE2B-4B95-85BD-872AEFA6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22D3-59F4-4362-A0A7-0A1C276F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94B-A939-4626-A5B2-F1CE71B5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BB86-4853-45BC-8EA4-844DAB4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E34-0CF5-4187-A1A3-42858677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DAD1-EA0A-4EF1-83DB-2015C25B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2D8D-8EF1-47CC-B54B-05767D7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3C31-D391-4B26-9C17-BCBB5C6E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BB0-6FD6-4777-9A9E-65FCFC6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E380-487D-4620-8F6D-458065A0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70B-E324-44E8-8785-4E1E1430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C34-D079-416D-90A9-322357E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10C-571D-41C7-9238-CCBD641B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03A-54EB-4982-92B5-A21A3A5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4F6-B96A-4D67-8D0E-168159C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38B-67F2-4DFF-88CF-B7F9079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5CD-E39F-4071-AAD3-694AA975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2C7-A330-4FB3-B291-20E9052A188A}" type="datetime">
              <a:rPr b="0" lang="sr-Latn-RS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FFF-B793-4F4B-80F1-89BC9A265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652-3138-484D-839A-84B6F72CF319}" type="datetime">
              <a:rPr b="0" lang="sr-Latn-RS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2AF-7F2D-4BA7-AC86-D4F8E747F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anatomy.net/anatomy/leginner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iro.org/chimages/b/dermatom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8893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Arial Black"/>
              </a:rPr>
              <a:t>Senzibilitet</a:t>
            </a:r>
            <a:br>
              <a:rPr sz="2800"/>
            </a:br>
            <a:r>
              <a:rPr b="0" lang="sr-Latn-RS" sz="2800" spc="-1" strike="noStrike">
                <a:solidFill>
                  <a:srgbClr val="ccecff"/>
                </a:solidFill>
                <a:latin typeface="Arial Black"/>
              </a:rPr>
              <a:t>Senzitivni sindromi</a:t>
            </a:r>
            <a:br>
              <a:rPr sz="2800"/>
            </a:br>
            <a:r>
              <a:rPr b="0" lang="sr-Latn-RS" sz="2800" spc="-1" strike="noStrike">
                <a:solidFill>
                  <a:srgbClr val="ccecff"/>
                </a:solidFill>
                <a:latin typeface="Arial Black"/>
              </a:rPr>
              <a:t>Poremećaji hoda</a:t>
            </a:r>
            <a:r>
              <a:rPr b="0" lang="sr-CS" sz="28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64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ccecff"/>
                </a:solidFill>
                <a:latin typeface="Arial"/>
              </a:rPr>
              <a:t>Dejan Aleks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Date Placeholder 1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3043-34FF-4AB3-8AB7-2E1BA4003CF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8246-C1D8-4175-A4A4-BFBEAFD054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 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otpuni presek kičmene možd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araplegija u fleks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Delimični presek kičmene možd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araplegija u ekstenzij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F96-37B7-44C8-900E-DCDD5B3D9F5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B0D3-323D-4817-BB6D-97EF5CEB0F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 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spastične kvadri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lezija iznad C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mlitave paralize ruku i spastične paralize no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u cervikalnoj intumescencij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spastične para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torakalnog dela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mlitave para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lumbalnog dela i S1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A3A-E001-40EA-8B7D-A29A00A9FC7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32C-3017-41DC-BC46-F4AA76F35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rown-Sequard-ov sindro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lezija jedne polovine kičmene možd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duzetost piramidnog tipa ipsi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estezija u visini lezije, ipsi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štećen senzibilitet za bol i temperaturu ispod mesta lezije, kontralateral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štećen duboki senzibilitet ispod mesta lezije, ipsilatet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635-CC64-42FE-9D95-1578AEBCFE7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6566-B000-4E2B-867F-7BAD30AD12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Sindrom segmentne disocijacije senzibiliteta sa brahijalnom amiotrofijom –siringomijelički sindrom 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S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i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ringom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ij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eli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j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a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 - 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najčešće donji deo cervikalne i gornji th regije,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od 30-45 godine, slabost i hipotrofija mišića ruku (šaka), ugašeni MR, </a:t>
            </a:r>
            <a:r>
              <a:rPr b="1" lang="sl-SI" sz="2400" spc="-1" strike="noStrike">
                <a:solidFill>
                  <a:srgbClr val="3dccff"/>
                </a:solidFill>
                <a:latin typeface="YUDutchR"/>
              </a:rPr>
              <a:t>oštećen senzibilitet za bol i temperaturu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, parapar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hemangioblast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pozne posledice povrede kičmene moždine (hematom</a:t>
            </a:r>
            <a:r>
              <a:rPr b="1" lang="sr-Latn-RS" sz="2400" spc="-1" strike="noStrike">
                <a:solidFill>
                  <a:srgbClr val="ffffff"/>
                </a:solidFill>
                <a:latin typeface="YUDutchR"/>
              </a:rPr>
              <a:t>ijelija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AB4-F632-4B2C-A68B-E59499D109E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FFF-5A15-4FBE-A909-E22D0BF71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pinalcord38"/>
          <p:cNvPicPr/>
          <p:nvPr/>
        </p:nvPicPr>
        <p:blipFill>
          <a:blip r:embed="rId1"/>
          <a:stretch/>
        </p:blipFill>
        <p:spPr>
          <a:xfrm>
            <a:off x="3048120" y="304920"/>
            <a:ext cx="3873240" cy="5857920"/>
          </a:xfrm>
          <a:prstGeom prst="rect">
            <a:avLst/>
          </a:prstGeom>
          <a:ln w="0">
            <a:noFill/>
          </a:ln>
        </p:spPr>
      </p:pic>
      <p:sp>
        <p:nvSpPr>
          <p:cNvPr id="15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EE6B-8FB5-4801-88D2-723C75079D29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29D-7747-4552-9B03-F5B5FF8B8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ecff"/>
                </a:solidFill>
                <a:latin typeface="Arial Black"/>
              </a:rPr>
              <a:t>Siringobulbij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Šupljina u produženoj moždini (nekada i ponsu), obično je udružena sa siringomijelij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Klinička slika: nistagmus, analgezija i termoanestezija jedne polovine lica, atrofija i slabost polovine jezika, paraliza mekog nepca, dizartrija, disfagija, promuk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Terapija: dekompresija šupljine putem šanta koji povezuje sirinks sa subarahnoidnim prostorom ili peritoneu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39ED-FA1D-4E86-99CD-B9FC82CE608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FDC2-6C10-4306-B323-81E09CC96F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Sindrom zadnjih funikul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štećenje zadnjih funikula (funikularna mijelo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ubitak dubokog senzibiliteta (dodir, taktilna diskriminacija, duboki položajni, vibracio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 lavaboa, prsti koji sviraju klavir, Romberg sa zatvorenim oč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F325-4B94-4072-A156-8898B0B1143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FEA2-DB75-4ED7-9B70-1587D10E3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dccff"/>
                </a:solidFill>
                <a:latin typeface="Arial Black"/>
              </a:rPr>
              <a:t>Tabes dorsalis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15-20 godina nakon primarne luetične infek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Gubitak neurona u dorzalnim ganglijama, degeneracija zadnjih funikul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Klinička slika: Argayl-Robertsonova zenica, arefleksija, oštećenje proprioceptivnog senzibil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Autonomna dis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Likvor: u 10-15% normalan, kod ostalih pleocitoza, hiperproteinorah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Dijagnoza: VD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Terapija:Penicillin G, 18-24 mil.jed. i.v. 14 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ili erytromycin, tetracyc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6FB-D8AA-4C05-A041-33ADE9E374F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DE5B-4799-4524-8069-4F97B28477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ecff"/>
                </a:solidFill>
                <a:latin typeface="Arial Black"/>
              </a:rPr>
              <a:t>Funikularna mijeloza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Uzrok: </a:t>
            </a:r>
            <a:r>
              <a:rPr b="1" lang="sl-SI" sz="2400" spc="-1" strike="noStrike">
                <a:solidFill>
                  <a:srgbClr val="3dccff"/>
                </a:solidFill>
                <a:latin typeface="Arial"/>
              </a:rPr>
              <a:t>deficit B12 vitam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Hematološki: perniciozna ane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Neurološki: degeneracija zadnjih i bočnih kolumni kičmene moždine, povremeno mozga, perifernih nerava, n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pticu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Ataksična kvadri- ili parapareza, MTR ugašeni, pozitivan Babin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Oštećen vibracijski i duboki položajni senzibili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Dijagnoza: megaloblastna anemija (visok MCV), snižen B12 u krvi, antiparijetalna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ozitiv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Terapija: B12 vit. 1000 gama dnevno, dve nedelje, potom 2 puta nedeljno godinu dana, jednom mesečno do kraja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E75C-9D02-456C-9DCB-7369195FD54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9B6A-384F-4398-8F0D-68EA53B1E9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Ventralni (prednji) spinalni sindrom 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infarkt u teritoriji a</a:t>
            </a:r>
            <a:r>
              <a:rPr b="1" lang="sr-Latn-RS" sz="2800" spc="-1" strike="noStrike" u="sng">
                <a:solidFill>
                  <a:srgbClr val="ffffff"/>
                </a:solidFill>
                <a:uFillTx/>
                <a:latin typeface="YUDutchR"/>
              </a:rPr>
              <a:t>r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. spinalis anterior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    </a:t>
            </a: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(motorne slabosti, više su zahvaćene ruke nego noge, distalne slabosti, spastična pareza ispod mesta lezij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      </a:t>
            </a: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ispad senzibiliteta za bol i temperaturu, poremećaj kontrole sfinktera, impotenci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red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tumor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, 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Inflamatorni m</a:t>
            </a:r>
            <a:r>
              <a:rPr b="1" lang="sr-Latn-RS" sz="2800" spc="-1" strike="noStrike">
                <a:solidFill>
                  <a:srgbClr val="ffffff"/>
                </a:solidFill>
                <a:latin typeface="YUDutchR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elitis prednje dve tre</a:t>
            </a:r>
            <a:r>
              <a:rPr b="1" lang="sl-SI" sz="2800" spc="-1" strike="noStrike">
                <a:solidFill>
                  <a:srgbClr val="ffffff"/>
                </a:solidFill>
                <a:latin typeface="YUDutchR"/>
              </a:rPr>
              <a:t>ćine vratne kičmene možd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3798-AB33-475A-9E94-7700190F4E4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D357-5EA0-4AB8-8950-C4E96E7BB0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Podela senzibilite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ksteroceptivn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koža i sluznica-dodir, bol, temperat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roprioceptivni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iz dubljih tkiva-pritisak, položaj, pokreti, vibracij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nteroceptivn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visceralni) iz unutrašnjih org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595F-7BD6-455B-A1C3-9F3269803AD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74A-9D59-48E3-BFB1-2202A2101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Sindrom </a:t>
            </a:r>
            <a:r>
              <a:rPr b="0" lang="sl-SI" sz="2800" spc="-1" strike="noStrike">
                <a:solidFill>
                  <a:srgbClr val="3dccff"/>
                </a:solidFill>
                <a:latin typeface="YUDutchR"/>
              </a:rPr>
              <a:t>epiconus-a, </a:t>
            </a: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conus medularis-a i caudae equinae : 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Epiconus (L4-S2): ispad senzibiliteta u potkolenicama i perianalno, pareza dorzalne i plantarne fleksije stopala, snižen PR, ugašen AR, funkcija sfinktera očuv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Conus (S3-Co1), cauda equina (nervni korenovi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Uzroci lezi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metastatski karcinomi u meningeama, korenovima ili pršljen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virusni ili demijelinizacioni m</a:t>
            </a:r>
            <a:r>
              <a:rPr b="1" lang="sr-Latn-RS" sz="2400" spc="-1" strike="noStrike">
                <a:solidFill>
                  <a:srgbClr val="ffffff"/>
                </a:solidFill>
                <a:latin typeface="YUDutchR"/>
              </a:rPr>
              <a:t>ij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e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A-V fist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miksopapilarni ependimo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kongenitalne malform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1AF5-2EA2-46CF-BA7E-3D2C0929F95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2E26-C99D-4AF4-AD69-4662AB8E90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Sindrom conus medularis-a i caudae equina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549360"/>
            <a:ext cx="3809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drom konusa počinje naglo sa bilateralnom prezentacij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tani bol redak i blag u perineu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šićne slabosti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odsutne il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zna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t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imetrične, retke fascikul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etrična disocijacija senzibiliteta, gubitak  za bol i temperaturne draži</a:t>
            </a: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 očuvan za dodir u perianogenitalnoj, sedlastoj distribuci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elarni i ahilovi refleksi očuv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ntinentio urinae et alvi od samog počet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štećena muška seksualna funk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549360"/>
            <a:ext cx="410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drom kaude ekvine počinje postepeno i jednostrano, a zatim asimetrič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tani bol je jak, radikularni i asimetrič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šićne paralize su teške, asimetrične, fascikulacije uočlj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metričan ispad površ</a:t>
            </a: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insko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enzibiliteta sedlaste distribucije, bez disocij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elarni i ahilovi refleksi mogu biti ugaš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emećaj funkcije sfinktera se javlja kasnije i u blažoj m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emećaj muške seksualne funkcije blaže izraž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E20-7601-450D-AE96-67E415348E1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700-FECB-479D-B68D-A41FFFEFAC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  <p:sp>
        <p:nvSpPr>
          <p:cNvPr id="18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671-CA23-422E-8691-4E94DC5AA80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C654-75FA-4BE5-9FC5-A9D55FC040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  <p:sp>
        <p:nvSpPr>
          <p:cNvPr id="18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5EB4-2835-4609-AD81-7FDD7309C0A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5968-F441-4544-B106-9E3694473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VII-</a:t>
            </a: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Sindrom foramen occipitale magnum-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zrok: tumor, trauma, siringomijelia, multipla skleroza,Chiari, atlanto-aksijalna dislokacija (RA) i druge skeletne malform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kcipitalni bol i bol u vratu sa širenjem u rame i ruku pri pokretima glave je početni si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Znaci su promenljivo izraženi: nistagmus (downbeat), hipestezija lica, dizartrija, disfonija i disfagija, spastična slabost ipsilateralne ruke pa noge,  zatim i kontralateralnih ekstrem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etko postoje znaci lezije perifernog motornog neurona na rukama usled sekundarnih vaskularnih promena kičmene mož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298-89A3-492E-ACEA-7B0B778AF78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7854-0A6F-4C38-AFD5-0A582A288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Netumorske lezije</a:t>
            </a: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trau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pondil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hernijacija i.v. disk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tenoza spinalnog ka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infektivne bolesti (absces, tuberkulom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inflamatorne bolesti (RA, Bechterew, Sarcoido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pinalne hemora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iringomij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kongenitalni poremeća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arahnoidne 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Paget-ova bol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osteopor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6E91-822D-483B-BE54-21136868A7B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91C-15E9-4C59-AAD8-84880FD5F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291960"/>
            <a:ext cx="823572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Tumorske lezij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epidural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traduralne-ekstramedularne (meningeom, 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urofibrom, leptomeningealne metastaz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tramedula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110-4312-45A4-81B4-7B40C552E82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F31E-CF35-4086-8A69-B001C4561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5400" y="256680"/>
            <a:ext cx="78501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NE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96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emijelinizacione (MS, AD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rusni mijelitisi (HZ, AIDS, HTLV-1, poliomijel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B12 deficij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nfar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pirohetna infekcija (lues, Ly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oksične mijelopatije (radijaci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utoimune (SLE, Sjog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araneoplastič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euronalne degener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kutni i subakutni mijelitisi nepoznatog uzro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5E7-25E6-4694-9D4B-473CB0DF761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E752-FDEC-4F1C-91D4-4C8A0D6C9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Talamusni bol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štećenje  senzibiliteta za sve modalitete na kontralateralnoj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lamusni 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lamusna hiperpat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1469-922A-4241-8B19-E610E4B7B1F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D5D-30FF-430D-8A8C-ECB5927E0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Sindrom oštećenja senzitivne kor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Ispad senzibiliteta na kontralateralnoj strani polovini lica i t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opognozija (odrediti mesto dodi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ereognozija (prepoznavanje predmeta opipavanj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rafestezija (prepoznavanje ispisanih brojeva i slov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utotopagnozija (prepoznavanje delova te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8F5F-C11B-4DC0-8488-786ECF4AAD9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121-2B1E-49D6-88D7-4930C94E9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94920" y="549360"/>
            <a:ext cx="328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za površinski senzibilit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Bol, temperatur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eksualne senza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2F90-5972-42D7-AC17-1F4F84D89E0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60A-9BA8-4458-9972-26451101E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8f8f8"/>
                </a:solidFill>
                <a:latin typeface="Arial Black"/>
              </a:rPr>
              <a:t>ОСНОВИ НЕУРОЛОШКОГ ПРЕГЛЕДА</a:t>
            </a:r>
            <a:r>
              <a:rPr b="1" lang="sr-Latn-R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sr-RS" sz="4000" spc="-1" strike="noStrike">
                <a:solidFill>
                  <a:srgbClr val="f8f8f8"/>
                </a:solidFill>
                <a:latin typeface="Arial Black"/>
              </a:rPr>
              <a:t>ХОДА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608360" cy="3066840"/>
          </a:xfrm>
          <a:prstGeom prst="rect">
            <a:avLst/>
          </a:prstGeom>
          <a:ln w="0">
            <a:noFill/>
          </a:ln>
        </p:spPr>
      </p:pic>
      <p:sp>
        <p:nvSpPr>
          <p:cNvPr id="218" name="Date Placeholder 4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233D-84CE-4A90-8395-E7F636D9FC4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B21-A946-406A-B926-FEA9D47D92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д представља сложену, високо координисану моторну радњу која захтева континуирану успешну интеграцију сензорних и моторних фун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д критично зависи од очуваности и нормалног функционисања ЦНС-а и ПНС-а, али захтева и компентетан мишићно-зглобни и кардиоваскуларни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 периоду од 7-9.деценије живота ход постаје несигуран и отежан, узроковано различитим узроцима: поремећај проприоцептивног сензибилитета услед недостатка витамина Б12; дегенеративне промене коштано-зглобног система; страх од пада код иначе здравих старијих особа – опрезан ход као по клизавој подлози, тзв.опрезни ход код старијих особ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0530-E461-4082-AE70-C9D3C2D41BB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E11B-F4E5-400D-8472-380A122F7C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 би испитали ход потребно је да обезбедимо довољно простора да болесник може слободно да хода,а  да смо у могућности да га у целости испратимо видом; уз ход посматрамо и коштане поремећаје: лордозу, кифозу, сколи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стантујемо да ли при ходу испитаник користи било какво помаг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вило је да бар у једном делу процене посматрамо положај и ход болесника када он није свестан т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C39-3176-481C-8175-56C4D330AD0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BD6-7F2D-4483-89D5-3CFAA7BE5C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д пацијента тражимо да хода ритмом и брзином којом се уобичајено кре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браћамо пажњу на симетричност х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Важно је издвојити јасну асиметрију страна: хемипареза након можданог удара; хемипаркинсонизам; анталгичн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838080" y="6245280"/>
            <a:ext cx="279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A465-2012-4708-9507-6BDAE5E3C23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6746-3F22-4977-A4E3-45E785FC6D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Уколико је ход симетричан покушавамо да одредимо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ва је дужина корака (нормална;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мала; неправилн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болесник хода на широкој основи или има маказаст ход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одиже стопала са подлоге или их вуче по њој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ав је положај трупа током ход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маше рукама у ход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прекомерно одиже коле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ви су положај и покретање карличног и раменог појас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ажњу усмеравамо на окретање или промену правца хода, обзиром да се они са тешкоћом врше код екстрапирамидних поремећаја и оштећења малог мозг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838080" y="6245280"/>
            <a:ext cx="330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4D4-ED2A-4E78-8FD1-1EF7B5F2D72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7B6A-2F31-4E0F-94AA-33EA838AA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Уколико је ход </a:t>
            </a:r>
            <a:r>
              <a:rPr b="0" lang="sr-RS" sz="2200" spc="-1" strike="noStrike">
                <a:solidFill>
                  <a:srgbClr val="ffff00"/>
                </a:solidFill>
                <a:latin typeface="Arial"/>
              </a:rPr>
              <a:t>асиметричан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потребно је </a:t>
            </a:r>
            <a:r>
              <a:rPr b="1" lang="sr-R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 да сазнам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је ход праћен бол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постоје деформитети коштано-зглобног систе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Тражимо да испитаник стоји и хода високо на прстима, а потом и на пета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оремећај хода који постепено настаје и дуго траје може да остане потпуно непримећен од стране болесника и породице; О поремећају сазнајемо индиректно: места на којима се обућа прво излизала, на основу контрактур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41E-4844-4ACB-A9DC-78E98203C319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421-9FFA-45E2-A443-7DD8E6F180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емипаретичан 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са хемипарезом држи полусавијену руку уз тело, док је истострана нога укочена и у екстенз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стендирана нога са стопалом у плантарној флексији је функционално „дужа“ од здраве но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при ходу, на паретичној страни, подиже карлицу и са напором забацује паретичну ногу у страну и пут напред, при чему описује полулук (ход са циркумдукциј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838080" y="6245280"/>
            <a:ext cx="30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D934-5238-45D4-9EDC-DEA8DD241B4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E3C-38C0-46C9-83B1-C1F9DB9FA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5" name="Date Placeholder 2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9D86-A4C3-4BD9-AC21-615B901CAF3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D4C8-5714-4442-A06C-932B9B92B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429000" y="1341360"/>
            <a:ext cx="228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пастичко-парапаретички 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илатерално оштећење пирамидног пута; (дечја церебрална одузетост; комресија или траума кичмене мождине; М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жано, уз напор, покреће укочене ноге, не савијајући их у коленима,, а због изражене адукције натколеница болесник се креће тако што једну укрућену ногу пребацује (укршта) испред друге (маказаст х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838080" y="6245280"/>
            <a:ext cx="30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D93-C47D-49D8-B8A6-775B4E2065F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4BE5-C732-4E5D-82EF-B28A4FB437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53" name="Content Placeholder 5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904000" cy="453528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2"/>
          <p:cNvSpPr/>
          <p:nvPr/>
        </p:nvSpPr>
        <p:spPr>
          <a:xfrm>
            <a:off x="838080" y="6245280"/>
            <a:ext cx="279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5EF-1B8D-4E7C-94F7-46568CC9CFC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198E-4BA2-4C47-BA77-F1DFDD7DB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Untitled-12"/>
          <p:cNvPicPr/>
          <p:nvPr/>
        </p:nvPicPr>
        <p:blipFill>
          <a:blip r:embed="rId1"/>
          <a:stretch/>
        </p:blipFill>
        <p:spPr>
          <a:xfrm>
            <a:off x="4043520" y="0"/>
            <a:ext cx="3978000" cy="690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00680" y="476280"/>
            <a:ext cx="364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Za duboki senzibilit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vibracija, pasivni pokre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globna i diskriminacija dve tačk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9C5-A332-4A59-8859-67158D9B04E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0F6-F2BB-4F0F-A720-7914BD7E0E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таксичан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Најчешће се види код оштећења малог мозга и највише личи на ход пијаног чове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Ход је на широкој основи, неуједначене дужине и правца корака, а болесник испољава нестабилност која је посебно упечатљива при окретању или промени правца кретањ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Уколико је оштећена једна страна малог мозга-заноси се на ту страну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700" spc="-1" strike="noStrike">
                <a:solidFill>
                  <a:srgbClr val="ffff00"/>
                </a:solidFill>
                <a:latin typeface="Arial"/>
              </a:rPr>
              <a:t>Сензорна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 атаксија – сличан ход праћен жалбама да ходају као по јастуку или перју – код оштећења проприоцептивног сензибилитета (оштећење периферних нерава или дорзалних колумни кичмене мождине). Изразито погоршање у мраку или када затворе очи (спинална атакксиј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Ход неједнаким корацима и прво спуштају пету, а потом прсте на подлогу, чује се дупли звук додира стопала са подлогом (</a:t>
            </a:r>
            <a:r>
              <a:rPr b="0" lang="sr-RS" sz="1700" spc="-1" strike="noStrike">
                <a:solidFill>
                  <a:srgbClr val="ffff00"/>
                </a:solidFill>
                <a:latin typeface="Arial"/>
              </a:rPr>
              <a:t>талонирајући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 ход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Код исцрпљених и након дугог лежања-ход тетурав, несигуран, спор-није атаксичан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838080" y="6245280"/>
            <a:ext cx="272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53F5-930A-4129-90F5-4E35CA25BDB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7465-6EFE-4A27-9CD4-4533AF7532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61" name="Content Placeholder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40000" cy="1784520"/>
          </a:xfrm>
          <a:prstGeom prst="rect">
            <a:avLst/>
          </a:prstGeom>
          <a:ln w="0">
            <a:noFill/>
          </a:ln>
        </p:spPr>
      </p:pic>
      <p:sp>
        <p:nvSpPr>
          <p:cNvPr id="262" name="Date Placeholder 2"/>
          <p:cNvSpPr/>
          <p:nvPr/>
        </p:nvSpPr>
        <p:spPr>
          <a:xfrm>
            <a:off x="838080" y="6245280"/>
            <a:ext cx="3157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AEE8-ACBD-44B4-84A3-A143F784909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4C36-3FED-4B11-82C1-DC1133FC50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3240000" cy="2737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38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аркинсон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Тело, руке и ноге болесника су полусавијени, а ход ситним корацима, које вуче по подлози, једва или уопште не одвајајући их од стопала („магнетни ход“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При ходу изостаји удружени покрети махања рука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На почетку болести израженије на једној стр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Антеропулз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Фестин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Оклевање-хези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939-91B5-42CA-A805-C86C413AE23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F5D-994A-44B4-B795-E48C779F8B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71" name="Content Placeholder 8" descr=""/>
          <p:cNvPicPr/>
          <p:nvPr/>
        </p:nvPicPr>
        <p:blipFill>
          <a:blip r:embed="rId1"/>
          <a:stretch/>
        </p:blipFill>
        <p:spPr>
          <a:xfrm>
            <a:off x="944640" y="1600200"/>
            <a:ext cx="7254720" cy="4525920"/>
          </a:xfrm>
          <a:prstGeom prst="rect">
            <a:avLst/>
          </a:prstGeom>
          <a:ln w="0">
            <a:noFill/>
          </a:ln>
        </p:spPr>
      </p:pic>
      <p:sp>
        <p:nvSpPr>
          <p:cNvPr id="272" name="Date Placeholder 2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7D93-9372-4AA7-98D9-05860EF138E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3295-AFB5-498B-B540-14C118487B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75" name="Content Placeholder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465440" cy="4753080"/>
          </a:xfrm>
          <a:prstGeom prst="rect">
            <a:avLst/>
          </a:prstGeom>
          <a:ln w="0">
            <a:noFill/>
          </a:ln>
        </p:spPr>
      </p:pic>
      <p:sp>
        <p:nvSpPr>
          <p:cNvPr id="276" name="Date Placeholder 2"/>
          <p:cNvSpPr/>
          <p:nvPr/>
        </p:nvSpPr>
        <p:spPr>
          <a:xfrm>
            <a:off x="826920" y="638172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383B-8438-4EE0-B33C-AFDF0AFCB35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146-5B7F-4D95-BF21-70A59C29EF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0258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еронеални или петлов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абост претибијалних и перонеалних мишића (обострано код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Charcot-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rie-Toothove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ти или једнострано код једностране радикулопатије Л5 корена, мононуритис мултиплекса или код оштећења заједничког перонеалног нерва) јавља се пад стопала (висеће стопало) када болесник није у стању да изврши дорзалну флекс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 ходу високо подиже и савија ногу у куку и коле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„Степовање“ –прво подлогу додирује палцем, а потом п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9FD-F488-4074-9586-017B3B43BB4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4E3D-963D-4C09-8E68-0A262C55B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84" name="Content Placeholder 6" descr=""/>
          <p:cNvPicPr/>
          <p:nvPr/>
        </p:nvPicPr>
        <p:blipFill>
          <a:blip r:embed="rId1"/>
          <a:stretch/>
        </p:blipFill>
        <p:spPr>
          <a:xfrm>
            <a:off x="457200" y="2112840"/>
            <a:ext cx="8229600" cy="3500640"/>
          </a:xfrm>
          <a:prstGeom prst="rect">
            <a:avLst/>
          </a:prstGeom>
          <a:ln w="0">
            <a:noFill/>
          </a:ln>
        </p:spPr>
      </p:pic>
      <p:sp>
        <p:nvSpPr>
          <p:cNvPr id="285" name="Date Placeholder 2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AE6E-7834-4DA4-A262-F0CAF81461A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E0E2-0D4B-4EDB-A873-912D9A95F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Миопатск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иопатије које су праћене слабошћу проксималних мишића ногу и карличног појаса (мишићне дистрофије; метаболичке, запаљенске и ендокрине миопатије) карактеришу се гегајућим или паткастим хо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наизменично премешта тежину са једне на другу ногу, уз често изражену лордозу крсног пред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838080" y="6245280"/>
            <a:ext cx="301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EB2-2593-4F95-BBB3-9DCBB857739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73A-40C1-446D-94A3-C5E0883115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92" name="Content Placeholder 5" descr=""/>
          <p:cNvPicPr/>
          <p:nvPr/>
        </p:nvPicPr>
        <p:blipFill>
          <a:blip r:embed="rId1"/>
          <a:stretch/>
        </p:blipFill>
        <p:spPr>
          <a:xfrm>
            <a:off x="1886040" y="184932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293" name="Date Placeholder 2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A39-5E5A-4211-90AF-75D20B160CC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0BAE-81AE-4371-AF25-B2412C7A4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Анталгичан х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оследица бола услед нпр.лумбоишијалгије, ортопедских поремећаја у куку или колену и сл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Ослања се на здраву ногу, а штеди „болну“ ногу и само краткотрајно се ослања на врх стопал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Психогени х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Функционални, неоргански, „фантастичан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Не уклапа се ни у једну од познатих органских форми поремећеног хода, има бизарне карактеристике које се могу мењати из прегледа у преглед, не прате га повређивања, и обично се смањује или губи када болесник мисли да га нико не посматр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838080" y="6245280"/>
            <a:ext cx="438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621-1A14-4631-A33E-4633A18B6A2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C51F-9DDB-4BF0-8AD0-58F9688D6D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Arial Black"/>
              </a:rPr>
              <a:t>Senzitivni sindromi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Date Placeholder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1C56-CDA8-49F1-A48A-74320E5A228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4E70-9DC3-4DCE-B8D2-EF3CB367C6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075680" y="1773360"/>
            <a:ext cx="528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Mogu biti posledica oštećenja na različitim nivo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CNS-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k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tala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moždano stablo (kranijalni ner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kičmena mož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PN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dorzalni nervni korenovi kičmene možd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periferni ner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300" name="Content Placeholder 5" descr=""/>
          <p:cNvPicPr/>
          <p:nvPr/>
        </p:nvPicPr>
        <p:blipFill>
          <a:blip r:embed="rId1"/>
          <a:stretch/>
        </p:blipFill>
        <p:spPr>
          <a:xfrm>
            <a:off x="1946160" y="1600200"/>
            <a:ext cx="5251680" cy="4525920"/>
          </a:xfrm>
          <a:prstGeom prst="rect">
            <a:avLst/>
          </a:prstGeom>
          <a:ln w="0">
            <a:noFill/>
          </a:ln>
        </p:spPr>
      </p:pic>
      <p:sp>
        <p:nvSpPr>
          <p:cNvPr id="301" name="Date Placeholder 2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9460-C991-4AB9-829D-1167C078F0B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9191-4E99-489E-B733-6232E152A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ладимир С.Костић. Основи неуролошког прегледа, 2013. Беог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5F4-27C2-4F0C-A0AF-99F8A17A6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1D2-1DB0-42BE-AA95-2B38B859308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Senzitivni sindromi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 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a perifernih ne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ispad senzibilieta za sve modalitete u distribuciji oštećenog nerva -mononeuropat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060640"/>
            <a:ext cx="216036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0E1-FAB9-4E34-9AB4-66E77C83F69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FD2A-108B-4A46-8571-0FD5A709A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Polineuropatij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126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  čarapa i rukav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etročni, distalni ispad senzibiliteta za sve modalitete na rukama i nog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oliner"/>
          <p:cNvPicPr/>
          <p:nvPr/>
        </p:nvPicPr>
        <p:blipFill>
          <a:blip r:embed="rId1"/>
          <a:stretch/>
        </p:blipFill>
        <p:spPr>
          <a:xfrm>
            <a:off x="5651640" y="1484280"/>
            <a:ext cx="2592360" cy="454824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E353-EDF4-4C66-944F-306AA204363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6F94-7FB0-47D7-B9D0-0EFC4E1AF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Lezija dorzalnih korenova I gangliona  - dermatom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296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truzije disk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erpes z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13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0F6-16B0-4BE0-9DAF-91B3BD87C9E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6A02-5F57-4AA8-B31D-C950475584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Naglo nastao presek kičmene možd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I Faza (tzv. faza spinalnog šoka, oko 3-4 sedmice), ugašene funkcije kičmene moždi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Ugašen senzibilitet za sve kvalitete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od povređenog segmenta nani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tonija, ugašeni ref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Retencija mokraće, bešika proširena, atonič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II Faza, uspostavljaju se funkcije kičmene moždi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jačani mišićni refleksi, povišen to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U visini povrede paraliza perifernog tipa mišića inervisani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d tih segmen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Neurogena beš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1FA6-5B5D-4671-A79E-F21C999D179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9AEE-CBE8-434B-9885-9F1622EF86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2:41:28Z</dcterms:created>
  <dc:creator>Slobodan Apostolski</dc:creator>
  <dc:description/>
  <dc:language>en-US</dc:language>
  <cp:lastModifiedBy>Dejan Aleksic</cp:lastModifiedBy>
  <dcterms:modified xsi:type="dcterms:W3CDTF">2021-09-28T09:39:26Z</dcterms:modified>
  <cp:revision>130</cp:revision>
  <dc:subject/>
  <dc:title>Bolesti kičmene moždine</dc:title>
</cp:coreProperties>
</file>